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3B4-7746-4BB4-A4A6-5DB74668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E3FF-3967-46C3-9A3C-39C3524E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CC6-8260-4537-B29D-BE1F15BE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C2E-67CB-4E0D-907A-63DE3117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F68B-C420-4E5B-A2E7-AADF1C0D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E0F-B3A2-4BBF-9AB9-47499EC4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5C3-5B4F-41F7-BB07-0A99C04C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DFCB-6C04-4EFF-8493-020FB52F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AA6-3C4A-4814-8346-3B6169B9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9B2-9FCA-4856-89C9-016FB1DC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3B11-D8ED-4B6F-B72C-C2B9D4E4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179-E81E-4066-8F65-A54C77DA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4EF1-292D-41CE-B63E-AAC6B8F28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Nom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lasse: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Je le pratique de manière ludique ou compétitive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Josée Meunier</cp:lastModifiedBy>
  <dcterms:modified xsi:type="dcterms:W3CDTF">2007-11-20T04:14:39Z</dcterms:modified>
  <cp:revision>8</cp:revision>
  <dc:subject/>
  <dc:title>Le chien</dc:title>
</cp:coreProperties>
</file>